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B4F1-6F16-4B88-836B-9B3B3275F5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58D8-20A1-4882-9407-6D67D88F4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F494-9A66-485A-8710-288EDC239B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DEBA-BE4C-486C-9DCC-8386C01B8A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C29B-8062-4EF9-898A-575585BCF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E799-CBB1-46C5-B3D8-42D8AF6ECB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84D6-1C74-4B14-A9F7-7451C5C252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4822-14E3-4E98-9C50-1073167F4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852C-4FE5-4529-B1CB-BA95F22F2A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D4BB-DAF9-4A32-9D30-12BCAD1796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B456-8D56-4146-8FB5-1CF65584E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D6B4-E830-4F85-9553-0761841BF3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80DBD-7027-4CF4-A305-C257D8E0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09A4-E416-4F08-92A1-93AA5EBD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87E1-078A-4E2C-B715-B113E78C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F80A-131E-4EF8-B52F-06803AEA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7A49-3F15-4A6E-A107-642DD624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DFA0-3CD4-44B3-8BE6-D9D7D529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BA20-CC72-412E-AEA0-07BD0512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323C-D049-430A-A4FA-86B57FE7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7186-EE22-46E9-AC4B-4C3C5C07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8D10-BCF1-4B87-B5BD-7DD5F86D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A796-0939-4157-8DF7-73C4BD62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A284-F4DA-4972-860E-09215F3A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F633-D9DB-465B-B74D-7A600BFC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CE0D-51C6-4772-A024-073E3C05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1F06-A4F7-46B1-B0C6-88511F3D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BFD1-CEE0-49CA-BB86-92FF9AFD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A8E8-5287-4043-9E70-764CC697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CB9B1-41CD-49F0-9C02-69121139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E911-F269-4F68-9123-973843B1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3FDA-D168-4D07-9855-E68F34B1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18A20-2D8F-49DD-A820-D63162A7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F897-E2CB-48F4-A426-48A5E496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C8AE-44C6-46A5-BCD4-017D8159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875E-992A-4468-BC54-565FA368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0571-0FAC-44C4-B3E0-0FA12EB928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14D9-B484-49D8-9F6B-E50FA635E14E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47EC-48B2-40B8-A0B1-1E261001E5A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3BBE-021F-4EAB-BBBF-BA2A601892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6799-0E7F-4840-A577-68EA203FA4B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242F-4FB6-40E2-98CE-B97D872053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95640" y="1052280"/>
            <a:ext cx="7478640" cy="30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ование МКБ-10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в статистике смертн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при травмах и отравл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067280" y="4365720"/>
            <a:ext cx="460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айсман Давид Александ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ндидат медицинских нау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дущий научный сотру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ГБУ «ЦНИИОИЗ» Минздрава Р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ый эксперт Сотрудничаю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 ВОЗ в России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ификации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9380-8317-4C7C-8007-90AC7924F2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5715-BA41-452B-B566-1C71E9A16319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208720" cy="5400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аждой строке п. 19 «Свидетельства»  записывается «своя» причина смер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осредствен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ч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межуточ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ч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ходная предшествовавш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я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чина при травмах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вл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ч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чины смер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начальная причина смер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ричина смерти, отобранная для статистической разрабо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5D6E-90F6-4968-BA76-0B7F3A41AA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A1CA-48AE-4526-B0D7-56F211F8DE7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79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нкт 19 «Медицинского свидетельства о смерти» должен быть заполнен на основании первичной медицинской документации – «посмертного эпикриз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тором должен быть четко отражен рубрифицированный заключительный судебно-медицинский посмертный диагно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с осложнениями, сгруппированными по степени тяже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шняя причина «основного» состояния – травмы в формулировке МКБ-1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овые, конкурирующие и сопутств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левания, травмы, отравл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88FD-ABE7-49E0-87AD-F4B5C2CE84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E959-3641-48E1-81C8-5927B124D63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травмах и отравлениях применя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йное код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один код из клас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д характера травмы, второй – код внешней причины (класс ХХ). В мировой статистике код внешней причины считается основным, а код характера травмы – дополнитель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йской Федерации при травмах и отравлениях используют оба кода как равнозначные, что не противоречит мировой статистике и позволяет подробно анализировать трав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FB6B-1096-4500-BB76-1F30FD1B1D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7A9C-5428-43AA-B00D-640994B6D70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различных причин смерти в «Свидетельстве» производится в строгом соответствии с установленными требовани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заполнения «Свидетельства» – сверху вн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ждой строке ча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исывается тольк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чина (состояние), при этом может быть заполнена строка а), строки а) и б) или строки а), б) и 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троке г) записывается внешняя при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4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травмах и отравления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F4C7-F0F1-4661-A2FA-B5FB8C5578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B3B5-2FAF-4101-8CB4-D60B8354C6C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557280" y="922680"/>
            <a:ext cx="802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лнение части I пункта 19 Свидетельства производится в обрат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и к основному состоянию с осложнения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ировка «основного» состояния – травмы заносится, как прави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троку подпункт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выбирается 1 - 2 осложнения, из котор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ют «логическую последовательность», и записыв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на строках подпункто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состояние, записанное строкой ниж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 являться причиной возникновения состоя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нного строкой вы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улировке диагноза в Свидетельстве след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ть только те термины, которые позволяют устано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травмы, например, травматическое субдура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воизлияние, разрыв легкого, перелом диафиза бедренной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ях, когда характер травмы определить невозмож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ют код Т07 «Множественные неуточненные травм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D1F4-54AE-4321-A51E-66725B259D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3614-EA58-4ABC-AAE7-68EC02B53B3D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53080" y="556560"/>
            <a:ext cx="878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трок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на быть записана формулировка внешней причи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ющая объективно установленным обстоятельствам происшествия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олкновение пешехода с легковым автомобилем, трав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шехода, дорожный несчастный случа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реднамеренное самоповреждение путем повешения в гараж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падение с применением острого предмета, на улиц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асть II пункта 19 судебно-медицинский эксперт, с учетом особен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ого случая, вносит еще 1-2 другие тяжелые трав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квалифицируемые как «основное» состоя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44280" y="4437000"/>
            <a:ext cx="731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же в этой части записывают те сопутствующие «основному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ю травмы, отравления, заболевания или патолог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, а также фоновые и конкурирующие состоя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имелись у погибшего и способствовали его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тяжелили «основную» травму и ускорили наступление смерт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60DE-2ABA-4ED1-ADDE-D8524B594C7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389F-CCA6-4DDF-AC1D-C0273E9485D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травмы, как правило, являются множественными, то в качестве «основного» состояния следует указывать только одну, основную, наиболее тяжелую травму, а в сопутствующих состояниях – еще 1-3 другие наиболее значимые трав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честве «основной» травмы может быть записана тольк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зологическая единица. Нозологическая единица – это травма, обозначенная в МКБ-10 самостоятельной рубрикой или подрубри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овка травмы в терминах МКБ-10 – это нозологический компонент диагноза, который должен быть всегда указан, что необходимо для правильного подбора соответствующего к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F964-739E-411F-B23B-407C43B474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6D00-1E21-4C9A-9D07-F2E375E394C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64800" y="689760"/>
            <a:ext cx="88585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ж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бри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9 включает ожоги нескольких областей те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цируемые более чем одной из рубрик Т20-Т2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кализация ожога должна быть уточн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ражено несколько областей тела, нужно выбрать только одн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которой и наступила смерть, и ее записы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а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ункта 19 Свидетельства, а другие локализации ожо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ывают в ча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рубри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 «Ожоги не уточненной локализации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бр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1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2 – являются дополнительными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олж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ся в качестве первоначальной причины смер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этой целью следует применять только рубрик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1094-0709-4FD6-87A6-EB29C78101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1410-1B45-47A6-BF1A-B10DD06B3168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11280" y="836640"/>
          <a:ext cx="7848360" cy="4843440"/>
        </p:xfrm>
        <a:graphic>
          <a:graphicData uri="http://schemas.openxmlformats.org/drawingml/2006/table">
            <a:tbl>
              <a:tblPr/>
              <a:tblGrid>
                <a:gridCol w="5630760"/>
                <a:gridCol w="992160"/>
                <a:gridCol w="330120"/>
                <a:gridCol w="223920"/>
                <a:gridCol w="223920"/>
                <a:gridCol w="223920"/>
                <a:gridCol w="223560"/>
              </a:tblGrid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птический шок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ермический ожог туловища третьей степен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_______________________________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оздействие пожара в здании школ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ное опьянение острое (содерж. в крови 2,5 ‰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й алкогол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28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63FF-DAAB-44F1-A94A-6E1AAF23C6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094C-4CAF-4852-A4BA-70817E6D2AC7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шние причины смерт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1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и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ных бл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Несчас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0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портные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0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9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внешние причины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0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Самоубий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0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Убий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5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Повреждения с неопределенными намерен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же использу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5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6 – действия, предусмотренные законом и военные 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0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4 – осложнения терапевтических и хирургических вмеша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5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9 – последствия воздействия внешних прич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0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8 – дополнитель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5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5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500"/>
                                        <p:tgtEl>
                                          <p:spTgt spid="1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500"/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500"/>
                                        <p:tgtEl>
                                          <p:spTgt spid="1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4408-03C7-42F7-8914-DB95DC53DE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9B17-DE12-4E9D-B6AA-2059712193BC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ждународная статистическая классификация болезней, сокращенно называемая МКБ, – это система рубрик, в которые конкретные нозологические единицы включены в соответствии с принятыми критериями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5A2A-BC4E-4B0F-8C6A-7D94D6771B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4ECD-236C-43A8-B64D-0D588F2CBF0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ировка внешней причины должна соответствовать травме, а также п.п.15 и 16 свиде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 та же внешняя причина содержится в каждом из вышеуказанных бло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утопление: может быть – случайным, в результате самоубийства, убийства и с неопределенными намер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есение внешней причины к тому или иному блоку определяется обстоятельствами случившегося и должно соответствовать п.15, а обстоятельства случившегося должны быть записаны в п.16 свидетельства о сме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тый знак кодов внешних причин (для рубри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0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, за исключением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6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7) – это код места происшествия (см. т.2 МКБ-10, стр. 37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FFF3-6BCA-4DF5-A353-1005DD1C6F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8163-8140-46DC-9B59-08E5FC1E677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4360" y="1413000"/>
          <a:ext cx="7920000" cy="4660920"/>
        </p:xfrm>
        <a:graphic>
          <a:graphicData uri="http://schemas.openxmlformats.org/drawingml/2006/table">
            <a:tbl>
              <a:tblPr/>
              <a:tblGrid>
                <a:gridCol w="5667120"/>
                <a:gridCol w="1127160"/>
                <a:gridCol w="225360"/>
                <a:gridCol w="223920"/>
                <a:gridCol w="225360"/>
                <a:gridCol w="225720"/>
                <a:gridCol w="225360"/>
              </a:tblGrid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нутрибрюшное кровотечение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зрыв печен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крытая рана передней брюшной стенк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ападение с применением острого предмет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а улиц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ное опьянение острое (содерж. в крови 3 ‰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256"/>
          <p:cNvSpPr/>
          <p:nvPr/>
        </p:nvSpPr>
        <p:spPr>
          <a:xfrm>
            <a:off x="1480320" y="620640"/>
            <a:ext cx="68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ры оформления свидетельств при травмах и отравл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6FFA-796A-4467-A24C-BF948E813B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2614-E6C5-41D6-A36B-156EE2B6947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55640" y="907920"/>
          <a:ext cx="7704000" cy="4746600"/>
        </p:xfrm>
        <a:graphic>
          <a:graphicData uri="http://schemas.openxmlformats.org/drawingml/2006/table">
            <a:tbl>
              <a:tblPr/>
              <a:tblGrid>
                <a:gridCol w="5527800"/>
                <a:gridCol w="973080"/>
                <a:gridCol w="325440"/>
                <a:gridCol w="218880"/>
                <a:gridCol w="219240"/>
                <a:gridCol w="220680"/>
                <a:gridCol w="218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нородное тело в трахее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Вдыхание пищи, приводящее к закупорк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рахеи, дом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ное опьянение острое (содерж. в крови 2 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28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F96E-A3ED-4A9C-8A22-044815185C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333E-F871-46FE-BC43-6A4059C0DB7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71640" y="907920"/>
          <a:ext cx="7213680" cy="4918320"/>
        </p:xfrm>
        <a:graphic>
          <a:graphicData uri="http://schemas.openxmlformats.org/drawingml/2006/table">
            <a:tbl>
              <a:tblPr/>
              <a:tblGrid>
                <a:gridCol w="5141160"/>
                <a:gridCol w="907200"/>
                <a:gridCol w="302040"/>
                <a:gridCol w="216000"/>
                <a:gridCol w="216000"/>
                <a:gridCol w="216000"/>
                <a:gridCol w="216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мерзание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_________________________________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______________________________________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Воздействие чрезмерно низкой природно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емпературы, на улице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ное опьянение острое (содерж. в крови 3 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й обструктивный бронхи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BBD0-2C51-471B-A6AF-892140141B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6C76-EAA9-4999-B71F-C2B2C5CDDE0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26920" y="981000"/>
          <a:ext cx="7490160" cy="4548240"/>
        </p:xfrm>
        <a:graphic>
          <a:graphicData uri="http://schemas.openxmlformats.org/drawingml/2006/table">
            <a:tbl>
              <a:tblPr/>
              <a:tblGrid>
                <a:gridCol w="5366160"/>
                <a:gridCol w="945360"/>
                <a:gridCol w="315360"/>
                <a:gridCol w="216000"/>
                <a:gridCol w="216000"/>
                <a:gridCol w="216000"/>
                <a:gridCol w="2160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топление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________________________________________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Случайное утопление в результате падения в ре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ное опьянение острое (содерж. в крови 2 ‰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3CC6-0163-4057-BC1F-00E1C3F209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0EFE-E621-4C9A-B3AD-90815DF11B4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71640" y="836640"/>
          <a:ext cx="7488000" cy="4807080"/>
        </p:xfrm>
        <a:graphic>
          <a:graphicData uri="http://schemas.openxmlformats.org/drawingml/2006/table">
            <a:tbl>
              <a:tblPr/>
              <a:tblGrid>
                <a:gridCol w="5364000"/>
                <a:gridCol w="945000"/>
                <a:gridCol w="315720"/>
                <a:gridCol w="216000"/>
                <a:gridCol w="216000"/>
                <a:gridCol w="216000"/>
                <a:gridCol w="216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душение, вызванное повешением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Преднамеренное самоповреждение путе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вешения, в гараж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пре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3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E092-5B4D-49DD-852C-2E0EBC4DCA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BF7B-4943-4327-8C65-64064A9ACC0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403280" y="1125360"/>
            <a:ext cx="633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Порядок статистического учета и код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ояний, связанных с употреблением психоактивных веществ, в соответствии с МКБ-1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ГБУ «ЦНИИОИЗ», г. Москва, 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031D-6617-4115-9F39-552D17D0C1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B96E-ECE9-4829-A7BD-F180C1A2250A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042920" y="1557360"/>
          <a:ext cx="7277040" cy="4633920"/>
        </p:xfrm>
        <a:graphic>
          <a:graphicData uri="http://schemas.openxmlformats.org/drawingml/2006/table">
            <a:tbl>
              <a:tblPr/>
              <a:tblGrid>
                <a:gridCol w="5192280"/>
                <a:gridCol w="916200"/>
                <a:gridCol w="304920"/>
                <a:gridCol w="216000"/>
                <a:gridCol w="216000"/>
                <a:gridCol w="216000"/>
                <a:gridCol w="216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ардиогенный шок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стрый инфаркт миокарда передней стенк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Отравление героином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еднамеренное самоотравление героином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ом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употребление алкоголем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употребление флунитразепам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9" name="Text Box 523"/>
          <p:cNvSpPr/>
          <p:nvPr/>
        </p:nvSpPr>
        <p:spPr>
          <a:xfrm>
            <a:off x="1327320" y="692280"/>
            <a:ext cx="641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ы оформления свидетельств при отравл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2B9F-43B7-4FCB-BD9F-82843DA026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7402-4FEA-486C-B37E-5C2B6AFC670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71640" y="765000"/>
          <a:ext cx="7488000" cy="5316840"/>
        </p:xfrm>
        <a:graphic>
          <a:graphicData uri="http://schemas.openxmlformats.org/drawingml/2006/table">
            <a:tbl>
              <a:tblPr/>
              <a:tblGrid>
                <a:gridCol w="5364000"/>
                <a:gridCol w="945000"/>
                <a:gridCol w="315720"/>
                <a:gridCol w="216000"/>
                <a:gridCol w="216000"/>
                <a:gridCol w="216000"/>
                <a:gridCol w="216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ек мозга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ксическая энцефалопат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Отравление амфетамином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равление амфетамином с неопределенным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амерениями, на улиц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употребление героином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употребление флунитразепам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, с проявлениями множественных инфе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28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ме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28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9EEB-DE48-444B-B16C-29655EB33A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12B3-B1A3-4BFB-B7C8-DF8AF6A82CA1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900000" y="981000"/>
          <a:ext cx="7417080" cy="4508640"/>
        </p:xfrm>
        <a:graphic>
          <a:graphicData uri="http://schemas.openxmlformats.org/drawingml/2006/table">
            <a:tbl>
              <a:tblPr/>
              <a:tblGrid>
                <a:gridCol w="5307480"/>
                <a:gridCol w="934200"/>
                <a:gridCol w="312120"/>
                <a:gridCol w="216000"/>
                <a:gridCol w="216000"/>
                <a:gridCol w="216000"/>
                <a:gridCol w="216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ксическая энцефалопат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ксическое действие этилового спирта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___________  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лучайное отравление этиловым спиртом, дома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ая интоксикация этиловым спир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108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108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EEF5-F313-41D1-B304-854EEAF84B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C5C2-0847-402D-9D70-4241CFD40A9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Цель международной классификации болезней –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345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оздание условий для систематизированной регистрации, анализа, интерпретации и сравнения данных о заболеваемости и смертности, полученных в разных странах или регионах  и в разное время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9C68-C5F1-4C45-833E-27875D7B5EB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44EA-DD52-43A0-A246-CA0C4681E3DB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11280" y="620640"/>
            <a:ext cx="75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имеется сочетание психических расстройст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званных употреблением алкоголя, и заболе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званных употреблением алкогол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 в качестве первоначальной причины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ирают заболевания, вызванные употреблением алког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11280" y="2276640"/>
          <a:ext cx="7993080" cy="3992400"/>
        </p:xfrm>
        <a:graphic>
          <a:graphicData uri="http://schemas.openxmlformats.org/drawingml/2006/table">
            <a:tbl>
              <a:tblPr/>
              <a:tblGrid>
                <a:gridCol w="5734080"/>
                <a:gridCol w="1011240"/>
                <a:gridCol w="336600"/>
                <a:gridCol w="226800"/>
                <a:gridCol w="228600"/>
                <a:gridCol w="227160"/>
                <a:gridCol w="228600"/>
              </a:tblGrid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ромбоэмболия легочной артери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Фибрилляция предсердий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лкогольная кардиомиопатия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_______________________                                    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________________________________________________________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дром зависимости от алког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огольный гепати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7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815E-0E4F-4023-95C7-EC4E218821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AAAD-50CC-4D8A-8947-9480D4362EB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971640" y="836640"/>
          <a:ext cx="7416720" cy="5160960"/>
        </p:xfrm>
        <a:graphic>
          <a:graphicData uri="http://schemas.openxmlformats.org/drawingml/2006/table">
            <a:tbl>
              <a:tblPr/>
              <a:tblGrid>
                <a:gridCol w="5306760"/>
                <a:gridCol w="934200"/>
                <a:gridCol w="312120"/>
                <a:gridCol w="216000"/>
                <a:gridCol w="216000"/>
                <a:gridCol w="216000"/>
                <a:gridCol w="2160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-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ек мозг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убарахноидальное кровоизлияние из церебраль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ой артер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ксическое действие окиси углерод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лучайное отравление окисью углерода,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ом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еросклеротический кардиосклер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рроз печ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7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9BF5-66F0-4CEA-A683-1760610CE4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B975-A30D-4260-8BA7-2E87497E5D8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835280" y="548640"/>
            <a:ext cx="58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ные несчастные случа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00-V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756000" y="1117440"/>
            <a:ext cx="770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нкте 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идетельства в случае транспорт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частного случая отмеча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есчастный случай, не связанный или связанный с производство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чай, связанный с производством отмечаю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место происшествия совпадает с местом работы погибш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 подпункты пункта 15 в случае транспор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частных случаев выбраны быть не мог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84360" y="3141720"/>
            <a:ext cx="80172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нкте 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идетельства указывают: число, месяц, год, врем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 происшествия и обстоятельства, при которых произошла трав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тоятельства ДТП должны быть обязательно взяты из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 или материалов доследственной провер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сведения по степени информативности должны быть достаточ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авильной формулировки и кодирования внешней прич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частного случа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044360" y="5157360"/>
            <a:ext cx="714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нкте 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лучае смерти только от ДТП отмечаю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е какого времени наступила смерть: в течение 30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них: в течение 7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E773-95DF-40E8-9C70-9E0661599C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8D14-955C-4FDC-8983-6E12595B963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97800" y="478440"/>
            <a:ext cx="8305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идетельстве должны быть правильно отраж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тоятельства транспортного несчастного случая (п. 16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я дорожно-транспортное происшествие (ДТП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анспортного несчастного случая, включая ДТП – пеше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итель; пассажир; лицо, находящееся снаружи транспортного сред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ное сред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елосипед; мотоцикл; автомобиль (легк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кап или фургон; грузовой; автобус); трамвай; троллейбу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ое транспортное сред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ым условием транспортного несчастного случая, включая ДТП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нахождение транспортного средства в движ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 транспортного несчастного случ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ключая ДТП – столкнов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ругим транспортным средством (указать каким), столкнов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закрепленным или стационарным объектом (указать каким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окидывание, без столкновения, другие обстоятель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ТП классифицируется тогда, когда местом происшествия я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бщественная магистраль [шоссе] или улиц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ые несчастные случаи, которые произошли вне обществ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истрали или улицы, должны квалифицироваться как недоро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653F-C7AD-4B01-BFF1-BBBF1BDB01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AEE9-F5A9-4DE2-89BE-BE10572B08F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687600" y="1125360"/>
            <a:ext cx="769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кодир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а трав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ранспортных несчастных случаях используют преимуществ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ы клас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Травмы, отравления и некоторые друг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ствия внешних причин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кодирования осложнений травм могут применя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ы других классов МКБ-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825480" y="3429000"/>
            <a:ext cx="753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классе раздел, обозначенный букв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тся для кодирования различных видов трав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ящихся к определенным областям те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раздел с буквой Т – для кодирования множественных трав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равм отдельных неуточненных областей те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кже отравлений и некоторых других следствий внешних прич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D7B2-A346-4A2F-A939-165030863D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F969-E533-4230-A197-6749B9024C4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61160" y="1342440"/>
            <a:ext cx="8174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аличии единичной травмы, послужившей причиной смер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первоначальной причины выбирается эта единичная трав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сложнениями, и она указывается на строка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), 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указ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ой последовательност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заголовок рубрики  указывает на множественный 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вмы, союз «с» означает одновременное поражение обе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ных локализаций, а союз «и» - как одной, так и обеих локализац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39.6 Травма внутрибрюшного(ых) органа(ов) с тазовым(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ом(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01.5 Открытая рана губы и полости р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1851-47DF-4F5C-9F72-6BCB347B8A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2C33-5695-49E7-8CEA-844665A1D40C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62"/>
          <p:cNvSpPr/>
          <p:nvPr/>
        </p:nvSpPr>
        <p:spPr>
          <a:xfrm>
            <a:off x="179280" y="702000"/>
            <a:ext cx="8512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жественное кодирование можно применять в пределах рубр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многих рубриках имеются подрубрики с четвертым знаком .7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означения множественных травм одного тип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азивших одну и ту же область т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, для обозначения 2-х и более травм в пределах данной рубри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02.7 Множественные переломы черепа и лицевых кост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следних рубриках каждого блока имеются подрубр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четвертым знаком .7 –  для множественных трав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ных типов, поразивших одну и ту же часть те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09.7 Множественные травмы голов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.е. травмы, классифицированные в более чем одной из рубрик  S00-S09.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множественных травмах, поразившие разные части те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тся ко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07 «Множественные неуточненные травмы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оды Т00-Т06 использовать не следу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6669-9201-40BF-9141-503A4870AE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411E-43AE-4826-9FB6-3C822496566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523080" y="1195200"/>
            <a:ext cx="809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кодировании первоначальной причины смер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спольз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самостоятельных коды рубрик со звездочкой («*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КБ-10, 2 т., стр.28), а также коды, перечисленные в таблице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КБ-10, 2 т., стр. 7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равма упоминается с диагноз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лбня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произошла вследств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пилеп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1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ервоначальной причиной смерти следует считать эти заболе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оверхностные травмы, относящи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рубрик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9.0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0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етаются с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ептококковым сепсис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40.-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им сепсис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41.-) и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46.Х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ервоначальной причиной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ет считать эти заболе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E55C-78D3-4866-966D-4C6BAB8D77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F67D-25EC-49BF-95A4-8BA596965A17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2"/>
          <p:cNvSpPr/>
          <p:nvPr/>
        </p:nvSpPr>
        <p:spPr>
          <a:xfrm>
            <a:off x="976680" y="1267920"/>
            <a:ext cx="728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первоначальной причины смер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характеру трав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ответствии с обновлениями ВОЗ 1996-2012 г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ится с 2013 года в соответствии с ранговой таблиц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3"/>
          <p:cNvSpPr/>
          <p:nvPr/>
        </p:nvSpPr>
        <p:spPr>
          <a:xfrm>
            <a:off x="614160" y="2716560"/>
            <a:ext cx="804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у таблицу следует использовать и при выборе «основной» трав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нескольких травм у погибшего. При этом при двух и более трав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«основного» состояния и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ют ту травму, у которой ранговое число мень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имеются две тяжелые травмы с одинаковым ранговым числ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выбор «основной» травмы в каждом конкретном случае производ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ебно-медицинским экспер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четом патогенеза травмы и механизма смер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BA25-60AA-4DEB-894D-3C1F7773E9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7E23-E3B3-4322-9E30-43C7EDAA501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3"/>
          <p:cNvSpPr/>
          <p:nvPr/>
        </p:nvSpPr>
        <p:spPr>
          <a:xfrm>
            <a:off x="756720" y="1268280"/>
            <a:ext cx="765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рожный несчастный случ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любой несчастный случай, связанный с моторным транспорт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ом, произошедший на общественной автомагист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т.е. начинающийся, заканчивающийся или части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ный с нахождением этих средств на автомагистрали]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4"/>
          <p:cNvSpPr/>
          <p:nvPr/>
        </p:nvSpPr>
        <p:spPr>
          <a:xfrm>
            <a:off x="1185120" y="3284640"/>
            <a:ext cx="676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ественная автомагистраль [шоссе] или улиц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 ширина полосы между границами владений или друг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ительными линиями участка земли, открытог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щественности с целью перемещения отдельных ли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имущества согласно закону или традиция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EEFE-060E-4A26-ACB7-B459D482F0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2E68-437F-4419-BC98-22DD4B7B3D41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798840" y="1025280"/>
            <a:ext cx="756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Б-10 – официальный юридический док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каз Президента России от 20.08.1991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б обеспечении экономической основы суверенитета РСФС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ряжение Председателя Верховного Со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йской Федерации от 14.01.1992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 переходе Российской Федерации на принят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международной практике систему учета и статист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здрава России № 170 от 25.05.1997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 переходе органов и учреждений здравоохранения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йской Федерации на Международную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истическую классификацию болезней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проблем, связанных со здоровьем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X пересмотра»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0947-9D78-4003-B1B8-939778F0E5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C51C-8608-4E30-B8B4-92DB75E36ED1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и кодирования внешних причин при ДТ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окидывание (без столкновения) включено в рубр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.-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8.-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8.-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8.-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8.-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8.-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8.- (МКБ-10, т. 1, ч. 2, стр. 388). Если опрокидывание транспортного средства произошло на автомагистрали или улице, то такой несчастный случай относят к ДТ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лицо пострадало при посадке или высадке из транспортного средства, не находящегося в движении, то такой несчастный случай к транспортным несчастным случаям не относ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ичиной ожога явился пожар, начавшийся внутри движущегося транспортного средства, то внешнюю причину кодируют как происшествие со столкновением с другим транспортным средством или без него (МКБ-10, том 1, часть 2, стр. 38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бстоятельства ДТП неизвестны, то необходимо выдать предварительное Свидетельство до уточнения сведений, а для кодирования неуточненного ДТП использовать рубрику внешней причины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9.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AE46-9ADD-4508-81F3-3196CB49AB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BD42-FBCA-42D5-94CD-72F70C43FD4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1484280"/>
          <a:ext cx="7775280" cy="4632480"/>
        </p:xfrm>
        <a:graphic>
          <a:graphicData uri="http://schemas.openxmlformats.org/drawingml/2006/table">
            <a:tbl>
              <a:tblPr/>
              <a:tblGrid>
                <a:gridCol w="5564160"/>
                <a:gridCol w="1106280"/>
                <a:gridCol w="220680"/>
                <a:gridCol w="220680"/>
                <a:gridCol w="220680"/>
                <a:gridCol w="222120"/>
                <a:gridCol w="2206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800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1800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ек головного мозга травматическ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ровоизлияние субдуральное травматическо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ерелом основания череп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олкновение пешехода с легковым автомобилем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равма пешехода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орожный несчастный случа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ерелом тела бедренной к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лкогольное опьянение острое (содержание в крови 2 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ут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7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9" name="Text Box 266"/>
          <p:cNvSpPr/>
          <p:nvPr/>
        </p:nvSpPr>
        <p:spPr>
          <a:xfrm>
            <a:off x="1830960" y="476280"/>
            <a:ext cx="537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ы заполнения п.19 свидетельств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анспортных несчастных слу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AA73-A6AE-4B85-BCA8-EAF49E7C67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5A67-C34E-4AD3-8C83-249E4EF8C41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71640" y="692280"/>
          <a:ext cx="7488000" cy="5499000"/>
        </p:xfrm>
        <a:graphic>
          <a:graphicData uri="http://schemas.openxmlformats.org/drawingml/2006/table">
            <a:tbl>
              <a:tblPr/>
              <a:tblGrid>
                <a:gridCol w="5340240"/>
                <a:gridCol w="1063800"/>
                <a:gridCol w="217440"/>
                <a:gridCol w="217440"/>
                <a:gridCol w="217440"/>
                <a:gridCol w="216000"/>
                <a:gridCol w="215640"/>
              </a:tblGrid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иповолемический травматический шок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равматический гемопневмоторак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зрыв левого легк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олкновение легкового и тяжелого грузовог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втомобилей, травма пассажира легковог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втомобиля, дорожный несчастный случа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ножественные переломы ключицы, лопатки и плечевой к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ножественные переломы реб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28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28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2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85D2-6C2F-46EE-8743-F2F5DC920A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5F4E-2E02-4149-99AB-0FA4BF7210E1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755640" y="907920"/>
          <a:ext cx="7632720" cy="4913280"/>
        </p:xfrm>
        <a:graphic>
          <a:graphicData uri="http://schemas.openxmlformats.org/drawingml/2006/table">
            <a:tbl>
              <a:tblPr/>
              <a:tblGrid>
                <a:gridCol w="5462640"/>
                <a:gridCol w="1084320"/>
                <a:gridCol w="217440"/>
                <a:gridCol w="217440"/>
                <a:gridCol w="217440"/>
                <a:gridCol w="216000"/>
                <a:gridCol w="217440"/>
              </a:tblGrid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ричины смер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лизительный период времени между началом патол. процесса и смерть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ой  и внешней причины смер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)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равматический шо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 или состояние, непосредственно  приведшее к смерти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равма нескольких внутрибрюшных органов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ческое состояние, которое привело к возникновению вышеуказанной пр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___________________________________________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ая  причина смерти  указывается  последней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олкновение велосипеда с трактором, травм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елосипедиста-водителя, недорожный несчас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луча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яя причина при травмах и  отравлен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у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Прочие важные состояния, способствовавшие смерти, но не связанные с болезнью или патологическим состоянием, приведшим к ней, включая употребление алкоголя, наркотических средств, психотропных  и других токсических веществ, содержание их в крови, а также операции (название, да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ножественные переломы пояснично-крестцового отдела позвоночника и костей т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у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C4E6-099F-4FAF-8555-510FBBC826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8421-9761-45BE-BDFB-2C4E6EE20C0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95280" y="335160"/>
            <a:ext cx="828684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и кодирования последствий трав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ледствия следует использовать для обозначения состоя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казанных в рубриках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0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9 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0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8, в качестве причины отдал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ледствий, которые сами классифицированы в других рубри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ятие «последствие» включ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и состояния как таковые или как отдаленные эффек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храняющиеся в течение года или более после острой трав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наличии формулировок и кода «Последствий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трока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), б), в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раздел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- обязательно заполнение строк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оследствия воздействия внешних причин смертности»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5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ы «Последствий травм и отравлений» должны соответств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ам «Последствий воздействия внешних причин смертност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тырехзначные подрубрики (4-й знак) необходимо уточн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части 2 первого тома МКБ-10 (стр. 508-509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195640" y="4508640"/>
          <a:ext cx="4968720" cy="1858680"/>
        </p:xfrm>
        <a:graphic>
          <a:graphicData uri="http://schemas.openxmlformats.org/drawingml/2006/table">
            <a:tbl>
              <a:tblPr/>
              <a:tblGrid>
                <a:gridCol w="2333520"/>
                <a:gridCol w="263520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следствий тра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отравл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«Последст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я внеш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 забол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мертно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90-Т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9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9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448E-BE6E-4748-9ABA-17BC56B5AD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C327-FB81-4A81-A07C-3BE2DDF5262D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1404000" y="1484280"/>
            <a:ext cx="653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сокращения ошибок при оформл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ицинских свидетельств о смер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сем мире примен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матизированные системы, позволя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одить автоматическое кодировани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матический выб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оначальной причины смер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дает возможность получения достовер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формации о смер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BDD3-E9BC-45A9-B8C5-9C00CA9EEF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A1FC-031A-45E0-99EC-FBD06F487112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1258920" y="191628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блюдение всех правил МКБ-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воляет полу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товерную международно сопоставим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формацию о заболеваемости и смертност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х показател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ояния здоровья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B06A-F6E8-4226-8C8E-910F7640E8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9C04-38E5-4663-9FC0-A9287655E66A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2625120" y="270828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723280" y="5373720"/>
            <a:ext cx="26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: dv55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02F1-E95D-48A4-B2F8-81C5C01ADF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8AD0-5A95-405D-867A-7387EC6DB0E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код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оспитальной статистике кодируется только основное заболевание (осложнения основного заболевания, фоновые, конкурирующие и сопутствующие болезни не кодируютс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мбулаторно-поликлинической статистике кроме основного заболевания кодируются все другие имеющиеся заболевания, кроме осложнений основной боле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учае смерти кодируется только первоначальная причина смерти, которая иногда не совпадает с формулировкой заключительного клинического или патологоанатомического (судебно-медицинского)  диагн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9EE4-F3DE-4E2D-BB4D-DC0090B911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6ADA-AC0F-4CE0-B033-633950502FD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2420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тистика смер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C19B-9BC0-48B2-8B6B-CF8B884036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0BC4-9644-4F78-9F57-0C150B27952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802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цепция первоначальной причины смер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оначальная причина смерт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езнь или травма, вызвавшая цепь событий, непосредственно приведших   к см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стоятельства несчастного случая или акта насилия, которые вызвали смертельную трав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FB5C-6DB2-4F0D-B4DA-6B957CDE94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8B2C-D4D9-408D-A99F-DE2C2D8D4CF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«первоначальной причины смерти» продиктовано тем, что, выстроив цепь событий, приведших к смерти, можно в ряде случаев повлиять на нее, с целью предотвращения смер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определение кас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оначальной причины по характ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в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83EF-6A3B-455F-B9AB-615344FA15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Дат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8FDD-ABCE-4FBC-938F-623F96ECCBB1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8208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ная форма № 106/у-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дицинское свидетельство о смерти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тверждена приказ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здравсоцразвития РФ 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6.12.08 г. № 782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7:25:22Z</dcterms:created>
  <dc:creator>Admin</dc:creator>
  <dc:description/>
  <dc:language>en-US</dc:language>
  <cp:lastModifiedBy>Ольга Елкина</cp:lastModifiedBy>
  <dcterms:modified xsi:type="dcterms:W3CDTF">2015-01-12T08:25:13Z</dcterms:modified>
  <cp:revision>39</cp:revision>
  <dc:subject/>
  <dc:title>Слайд 1</dc:title>
</cp:coreProperties>
</file>